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7.gif" ContentType="image/gif"/>
  <Override PartName="/ppt/media/%D0%BA%D0%BE%D0%BD%D0%B5%D1%86.wav" ContentType="audio/x-wav"/>
  <Override PartName="/ppt/media/image13.jpeg" ContentType="image/jpeg"/>
  <Override PartName="/ppt/media/image4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14.jpeg" ContentType="image/jpeg"/>
  <Override PartName="/ppt/media/%D0%9C%D0%BE%D1%80%D0%B4%D0%B0%D1%88%D0%BA%D0%B8.wav" ContentType="audio/x-wav"/>
  <Override PartName="/ppt/media/image11.png" ContentType="image/png"/>
  <Override PartName="/ppt/media/image12.jpeg" ContentType="image/jpeg"/>
  <Override PartName="/ppt/media/image6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4C17-560E-402B-8193-601AAA6D8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51F2-487C-42BC-99FF-B503056B8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9A30-0B6A-47D8-8324-14599AB26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2D33-D3ED-4721-8379-18192732E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1A61-CC26-4AD5-ACCB-F6ADA3752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FA38-093D-4121-B285-FE4726ADD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2DB0-44DD-411B-B177-DD4E82E87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59F8-DCA8-4931-A040-8BE8A264E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D542-A6B6-4945-903F-E0283EBDB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B740-4055-40EC-BEEC-8D1097FD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0CCE-B326-4282-8B13-BB3B9B80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3D25-847F-4F8E-920C-1AAD3A33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CFEB2-BF6B-4C89-B098-BB8A537546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&#1082;&#1086;&#1085;&#1077;&#1094;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&#1052;&#1086;&#1088;&#1076;&#1072;&#1096;&#1082;&#1080;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953735"/>
                </a:solidFill>
                <a:latin typeface="Arial"/>
                <a:ea typeface="Arial"/>
              </a:rPr>
              <a:t>Преподавание в начальной школе.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1" lang="ru-RU" sz="1800" spc="-1" strike="noStrike">
                <a:solidFill>
                  <a:srgbClr val="17375e"/>
                </a:solidFill>
                <a:latin typeface="Arial"/>
                <a:ea typeface="Arial"/>
              </a:rPr>
              <a:t>Урок – презентация на тему : Г. Х. Андерсен «Дюймовочка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072040"/>
            <a:ext cx="6400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53735"/>
                </a:solidFill>
                <a:latin typeface="Calibri"/>
              </a:rPr>
              <a:t>       </a:t>
            </a:r>
            <a:r>
              <a:rPr b="1" lang="ru-RU" sz="1600" spc="-1" strike="noStrike">
                <a:solidFill>
                  <a:srgbClr val="953735"/>
                </a:solidFill>
                <a:latin typeface="Arial"/>
                <a:ea typeface="Arial"/>
              </a:rPr>
              <a:t>Августова Марина Михайлов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53735"/>
                </a:solidFill>
                <a:latin typeface="Arial"/>
                <a:ea typeface="Arial"/>
              </a:rPr>
              <a:t>     </a:t>
            </a:r>
            <a:r>
              <a:rPr b="1" lang="ru-RU" sz="1600" spc="-1" strike="noStrike">
                <a:solidFill>
                  <a:srgbClr val="953735"/>
                </a:solidFill>
                <a:latin typeface="Arial"/>
                <a:ea typeface="Arial"/>
              </a:rPr>
              <a:t>учитель начальных класс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53735"/>
                </a:solidFill>
                <a:latin typeface="Arial"/>
                <a:ea typeface="Arial"/>
              </a:rPr>
              <a:t>МОУ РСОШ№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53735"/>
                </a:solidFill>
                <a:latin typeface="Arial"/>
                <a:ea typeface="Arial"/>
              </a:rPr>
              <a:t>имени В.С.Ворони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8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8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8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60e1c"/>
                </a:solidFill>
                <a:uFillTx/>
                <a:latin typeface="Arial"/>
              </a:rPr>
              <a:t>Выборочное чтение. Подбери отрывки к картинка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7" descr="SA550226"/>
          <p:cNvPicPr/>
          <p:nvPr/>
        </p:nvPicPr>
        <p:blipFill>
          <a:blip r:embed="rId1"/>
          <a:stretch/>
        </p:blipFill>
        <p:spPr>
          <a:xfrm>
            <a:off x="108000" y="1413000"/>
            <a:ext cx="2808360" cy="4525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SA550230"/>
          <p:cNvPicPr/>
          <p:nvPr/>
        </p:nvPicPr>
        <p:blipFill>
          <a:blip r:embed="rId2"/>
          <a:srcRect l="4433" t="3327" r="4433" b="3327"/>
          <a:stretch/>
        </p:blipFill>
        <p:spPr>
          <a:xfrm>
            <a:off x="6084720" y="1413000"/>
            <a:ext cx="2878200" cy="4537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" descr="SA550228"/>
          <p:cNvPicPr/>
          <p:nvPr/>
        </p:nvPicPr>
        <p:blipFill>
          <a:blip r:embed="rId3"/>
          <a:stretch/>
        </p:blipFill>
        <p:spPr>
          <a:xfrm>
            <a:off x="2987640" y="1413000"/>
            <a:ext cx="301644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60e1c"/>
                </a:solidFill>
                <a:uFillTx/>
                <a:latin typeface="Arial"/>
              </a:rPr>
              <a:t>Самостоятельная рабо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35480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Какое зерно дала старая колдунья бедной бездетной женщин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Что выросло из ячменного зёрнышк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тчего цветок распустился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Какого роста была девочка в цветк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Что служило колыбелькою для Дюймовочк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Кто похитил Дюймовочку из дом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У кого перезимовала Дюймовочк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Как попала девочка к кроту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Кто помог Дюймовочке сбежать от крот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а кого Дюймовочка вышла замуж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Beethoven's Symphony No. 9 (Scherzo).wma" descr=""/>
          <p:cNvPicPr/>
          <p:nvPr/>
        </p:nvPicPr>
        <p:blipFill>
          <a:blip r:embed="rId1"/>
          <a:stretch/>
        </p:blipFill>
        <p:spPr>
          <a:xfrm>
            <a:off x="7308720" y="494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8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8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8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8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8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8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8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8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8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8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8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8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8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8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8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8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8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8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8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8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8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8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8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8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8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8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8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8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8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8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8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8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8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800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800" fill="hold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800" fill="hold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800" fill="hold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800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800" fill="hold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800" fill="hold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800" fill="hold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0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521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4" dur="75742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60e1c"/>
                </a:solidFill>
                <a:uFillTx/>
                <a:latin typeface="Arial"/>
              </a:rPr>
              <a:t>Итоговые вопрос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акие чувства вызвала у вас сказк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ему можно учиться у Дюймовочк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ак вы понимаете выражение «человек с большим сердцем»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ожно ли это сказать о Дюймовочке и почему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3724200" y="3108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3940200" y="3324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8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8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8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8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8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8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8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8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8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8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8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8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8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8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8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8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8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60e1c"/>
                </a:solidFill>
                <a:uFillTx/>
                <a:latin typeface="Arial"/>
              </a:rPr>
              <a:t>Читайте книги Г.Х.Андерсе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5" descr="SA550232"/>
          <p:cNvPicPr/>
          <p:nvPr/>
        </p:nvPicPr>
        <p:blipFill>
          <a:blip r:embed="rId1"/>
          <a:stretch/>
        </p:blipFill>
        <p:spPr>
          <a:xfrm rot="20769600">
            <a:off x="468360" y="1412640"/>
            <a:ext cx="2233440" cy="3384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SA550233"/>
          <p:cNvPicPr/>
          <p:nvPr/>
        </p:nvPicPr>
        <p:blipFill>
          <a:blip r:embed="rId2"/>
          <a:stretch/>
        </p:blipFill>
        <p:spPr>
          <a:xfrm rot="1139400">
            <a:off x="6159240" y="1591920"/>
            <a:ext cx="2455920" cy="3532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SA550235"/>
          <p:cNvPicPr/>
          <p:nvPr/>
        </p:nvPicPr>
        <p:blipFill>
          <a:blip r:embed="rId3"/>
          <a:stretch/>
        </p:blipFill>
        <p:spPr>
          <a:xfrm>
            <a:off x="3132000" y="2492280"/>
            <a:ext cx="2448000" cy="35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8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8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8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8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1332000" y="480240"/>
            <a:ext cx="62942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i="1" lang="en-US" sz="4400" spc="-1" strike="noStrike">
                <a:solidFill>
                  <a:srgbClr val="953735"/>
                </a:solidFill>
                <a:latin typeface="Arial"/>
              </a:rPr>
              <a:t>“</a:t>
            </a:r>
            <a:r>
              <a:rPr b="1" i="1" lang="en-US" sz="4400" spc="-1" strike="noStrike">
                <a:solidFill>
                  <a:srgbClr val="953735"/>
                </a:solidFill>
                <a:latin typeface="Arial"/>
              </a:rPr>
              <a:t>Мордашки”.</a:t>
            </a:r>
            <a:r>
              <a:rPr b="0" i="1" lang="en-US" sz="2400" spc="-1" strike="noStrike">
                <a:solidFill>
                  <a:srgbClr val="953735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833400" y="4471560"/>
            <a:ext cx="6514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497d"/>
                </a:solidFill>
                <a:latin typeface="Arial"/>
              </a:rPr>
              <a:t>Вопрос: 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С каким настроением вы заканчиваете ур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497d"/>
                </a:solidFill>
                <a:latin typeface="Arial"/>
              </a:rPr>
              <a:t>             </a:t>
            </a:r>
            <a:r>
              <a:rPr b="1" i="1" lang="en-US" sz="2400" spc="-1" strike="noStrike">
                <a:solidFill>
                  <a:srgbClr val="1f497d"/>
                </a:solidFill>
                <a:latin typeface="Arial"/>
              </a:rPr>
              <a:t>Посмотрите на ту мордашк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497d"/>
                </a:solidFill>
                <a:latin typeface="Arial"/>
              </a:rPr>
              <a:t>        </a:t>
            </a:r>
            <a:r>
              <a:rPr b="1" i="1" lang="en-US" sz="2400" spc="-1" strike="noStrike">
                <a:solidFill>
                  <a:srgbClr val="1f497d"/>
                </a:solidFill>
                <a:latin typeface="Arial"/>
              </a:rPr>
              <a:t>улыбнитесь 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826920" y="2714760"/>
            <a:ext cx="1229040" cy="1342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2"/>
          <a:stretch/>
        </p:blipFill>
        <p:spPr>
          <a:xfrm>
            <a:off x="3881520" y="2681280"/>
            <a:ext cx="1476360" cy="1495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3"/>
          <a:stretch/>
        </p:blipFill>
        <p:spPr>
          <a:xfrm>
            <a:off x="7000920" y="2643120"/>
            <a:ext cx="1224000" cy="150012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7"/>
          <p:cNvSpPr/>
          <p:nvPr/>
        </p:nvSpPr>
        <p:spPr>
          <a:xfrm>
            <a:off x="11520" y="1197000"/>
            <a:ext cx="324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Урока время истекло</a:t>
            </a:r>
            <a:br>
              <a:rPr sz="1800"/>
            </a:b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Я вам ребята благодарна </a:t>
            </a:r>
            <a:br>
              <a:rPr sz="1800"/>
            </a:b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За то, что встретили тепло</a:t>
            </a:r>
            <a:br>
              <a:rPr sz="1800"/>
            </a:b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И поработали уда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785960"/>
            <a:ext cx="8229600" cy="21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953735"/>
                </a:solidFill>
                <a:latin typeface="Arial"/>
                <a:ea typeface="Arial"/>
              </a:rPr>
              <a:t>Благодарю за внимание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8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953735"/>
                </a:solidFill>
                <a:latin typeface="Arial"/>
                <a:ea typeface="Arial"/>
              </a:rPr>
              <a:t>Добрый день!</a:t>
            </a:r>
            <a:br>
              <a:rPr sz="2800"/>
            </a:br>
            <a:r>
              <a:rPr b="1" lang="en-US" sz="2800" spc="-1" strike="noStrike">
                <a:solidFill>
                  <a:srgbClr val="953735"/>
                </a:solidFill>
                <a:latin typeface="Arial"/>
                <a:ea typeface="Arial"/>
              </a:rPr>
              <a:t>Мой дорогой ученик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2857320"/>
            <a:ext cx="822960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53735"/>
                </a:solidFill>
                <a:latin typeface="Arial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53735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953735"/>
                </a:solidFill>
                <a:latin typeface="Arial"/>
                <a:ea typeface="Arial"/>
              </a:rPr>
              <a:t>Приветствую тебя на уроке чтения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8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8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8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5"/>
          <p:cNvSpPr/>
          <p:nvPr/>
        </p:nvSpPr>
        <p:spPr>
          <a:xfrm>
            <a:off x="1332000" y="480240"/>
            <a:ext cx="62942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i="1" lang="en-US" sz="4400" spc="-1" strike="noStrike">
                <a:solidFill>
                  <a:srgbClr val="953735"/>
                </a:solidFill>
                <a:latin typeface="Arial"/>
              </a:rPr>
              <a:t>“</a:t>
            </a:r>
            <a:r>
              <a:rPr b="1" i="1" lang="en-US" sz="4400" spc="-1" strike="noStrike">
                <a:solidFill>
                  <a:srgbClr val="953735"/>
                </a:solidFill>
                <a:latin typeface="Arial"/>
              </a:rPr>
              <a:t>Мордашки”.</a:t>
            </a:r>
            <a:r>
              <a:rPr b="0" i="1" lang="en-US" sz="2400" spc="-1" strike="noStrike">
                <a:solidFill>
                  <a:srgbClr val="953735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826560" y="4471560"/>
            <a:ext cx="8103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497d"/>
                </a:solidFill>
                <a:latin typeface="Arial"/>
              </a:rPr>
              <a:t>Вопрос: С каким настроением вы пришли на уро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497d"/>
                </a:solidFill>
                <a:latin typeface="Arial"/>
              </a:rPr>
              <a:t>             </a:t>
            </a:r>
            <a:r>
              <a:rPr b="1" i="1" lang="en-US" sz="2400" spc="-1" strike="noStrike">
                <a:solidFill>
                  <a:srgbClr val="1f497d"/>
                </a:solidFill>
                <a:latin typeface="Arial"/>
              </a:rPr>
              <a:t>Смотри на ту мордашк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497d"/>
                </a:solidFill>
                <a:latin typeface="Arial"/>
              </a:rPr>
              <a:t>        </a:t>
            </a:r>
            <a:r>
              <a:rPr b="1" i="1" lang="en-US" sz="2400" spc="-1" strike="noStrike">
                <a:solidFill>
                  <a:srgbClr val="1f497d"/>
                </a:solidFill>
                <a:latin typeface="Arial"/>
              </a:rPr>
              <a:t>улыбнись ей и продолжай рабо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1228680" cy="1276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"/>
          <p:cNvPicPr/>
          <p:nvPr/>
        </p:nvPicPr>
        <p:blipFill>
          <a:blip r:embed="rId2"/>
          <a:stretch/>
        </p:blipFill>
        <p:spPr>
          <a:xfrm>
            <a:off x="3881520" y="2681280"/>
            <a:ext cx="1547640" cy="1533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" descr=""/>
          <p:cNvPicPr/>
          <p:nvPr/>
        </p:nvPicPr>
        <p:blipFill>
          <a:blip r:embed="rId3"/>
          <a:stretch/>
        </p:blipFill>
        <p:spPr>
          <a:xfrm>
            <a:off x="6877080" y="1484280"/>
            <a:ext cx="1224000" cy="11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53735"/>
                </a:solidFill>
                <a:uFillTx/>
                <a:latin typeface="Arial"/>
                <a:ea typeface="Arial"/>
              </a:rPr>
              <a:t>Цел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55736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  <a:ea typeface="Arial"/>
              </a:rPr>
              <a:t>Познакомить детей с творчеством Г.Х.Андерсен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  <a:ea typeface="Arial"/>
              </a:rPr>
              <a:t>Развивать навык чтения, развивать память, словарный запас дет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  <a:ea typeface="Arial"/>
              </a:rPr>
              <a:t>Воспитывать интерес к зарубежной литератур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  <a:ea typeface="Arial"/>
              </a:rPr>
              <a:t>Воспитывать в детях чувство доброты, умение прощать и сострада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  <a:ea typeface="Arial"/>
              </a:rPr>
              <a:t>Учить видеть и ценить прекрасно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8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8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53735"/>
                </a:solidFill>
                <a:uFillTx/>
                <a:latin typeface="Arial"/>
                <a:ea typeface="Arial"/>
              </a:rPr>
              <a:t>Эпиграф к урок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В цветущей Дании, где свет увидел я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Берёт мой мир своё начал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На датском языке мать песни мне певал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Шептала сказки мне родимая мо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                                            </a:t>
            </a: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Г. Х. Андерсе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8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8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8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8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8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8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8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8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8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60e1c"/>
                </a:solidFill>
                <a:uFillTx/>
                <a:latin typeface="Arial"/>
              </a:rPr>
              <a:t>Г.Х.Андерсе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6000" y="1600200"/>
            <a:ext cx="397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одился в городе Оденсе в Дании 2 апреля  1805 года в бедной семье сапожни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Маленький Ганс очень любил слушать сказки и интересные истор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Мальчик переделывал истории и рассказывал их по своему. Первым его слушателем был старый кот Карл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 1819 он отправился в Копенгаген, чтобы стать актёр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сего Андерсен написал 170 сказо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a03018i"/>
          <p:cNvPicPr/>
          <p:nvPr/>
        </p:nvPicPr>
        <p:blipFill>
          <a:blip r:embed="rId1"/>
          <a:stretch/>
        </p:blipFill>
        <p:spPr>
          <a:xfrm>
            <a:off x="684360" y="1700280"/>
            <a:ext cx="3456000" cy="432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8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8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8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8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8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8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8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539640" y="1125360"/>
            <a:ext cx="7561440" cy="68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 честь  дня     рождения   Г.Х.Андерсена-2апреля – проводится   Международный  день   детской кни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   1958   году    учреждена   Международная Золотая   медаль     Г.Х.  Андерсена,    которая      присуждается лучшему современному автору раз в два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 1975году,  в год  170-летия со  дня   рождения и 100 – летия со дня смерти сказочника по призыву Всемирного Совета Мира был объявлен годом Андерс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од Ленинградом выстроен детский игровой комплекс – «Андерсенград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Международную  золотую  медаль Г.Х.  Андерсена        в       1976   году  получила       выдающаяся  советская   художница Т.А.    Маврина  за иллюстрации к сказкам Пушк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60e1c"/>
                </a:solidFill>
                <a:uFillTx/>
                <a:latin typeface="Arial"/>
              </a:rPr>
              <a:t>Это интересн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8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300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 u="sng">
                <a:solidFill>
                  <a:srgbClr val="a60e1c"/>
                </a:solidFill>
                <a:uFillTx/>
                <a:latin typeface="Arial"/>
              </a:rPr>
              <a:t>Посмотри отрывок и скажи из какого он произведения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895480" y="2209680"/>
            <a:ext cx="3353040" cy="243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8" dur="44840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9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300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3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53735"/>
                </a:solidFill>
                <a:uFillTx/>
                <a:latin typeface="Arial"/>
                <a:ea typeface="Arial"/>
              </a:rPr>
              <a:t>Физкультминут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195640" y="1699920"/>
            <a:ext cx="475272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-20232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Спал цветок и вдруг проснулся –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02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a60e1c"/>
                </a:solidFill>
                <a:latin typeface="Arial"/>
              </a:rPr>
              <a:t>( Туловище вправо, влево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02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Больше спать не захотел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02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a60e1c"/>
                </a:solidFill>
                <a:latin typeface="Arial"/>
              </a:rPr>
              <a:t>( Туловище вперед, назад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02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Шевельнулся, потянулся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02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a60e1c"/>
                </a:solidFill>
                <a:latin typeface="Arial"/>
              </a:rPr>
              <a:t>( Руки вверх, потянуться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02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Взвился вверх и полете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02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a60e1c"/>
                </a:solidFill>
                <a:latin typeface="Arial"/>
              </a:rPr>
              <a:t>( Руки вверх, влево, вправо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02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Солнце утром лишь проснётся, Бабочка кружит и вьёт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02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60e1c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a60e1c"/>
                </a:solidFill>
                <a:latin typeface="Arial"/>
              </a:rPr>
              <a:t>( Покружиться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02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2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2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2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232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C:\Documents and Settings\max\Рабочий стол\J0234759.GIF"/>
          <p:cNvPicPr/>
          <p:nvPr/>
        </p:nvPicPr>
        <p:blipFill>
          <a:blip r:embed="rId1"/>
          <a:stretch/>
        </p:blipFill>
        <p:spPr>
          <a:xfrm>
            <a:off x="250920" y="1700280"/>
            <a:ext cx="1728720" cy="2160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C:\Documents and Settings\max\Рабочий стол\J0189251.GIF"/>
          <p:cNvPicPr/>
          <p:nvPr/>
        </p:nvPicPr>
        <p:blipFill>
          <a:blip r:embed="rId2"/>
          <a:stretch/>
        </p:blipFill>
        <p:spPr>
          <a:xfrm>
            <a:off x="6877080" y="3429000"/>
            <a:ext cx="210492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8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8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8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8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8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8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8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8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8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8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8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8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8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8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8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8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8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8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8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8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800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8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8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800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8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8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8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800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800" fill="hold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800" fill="hold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800" fill="hold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800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800" fill="hold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800" fill="hold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800" fill="hold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800"/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800" fill="hold"/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800" fill="hold"/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800" fill="hold"/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8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8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13:43:18Z</dcterms:created>
  <dc:creator>макс</dc:creator>
  <dc:description/>
  <dc:language>en-US</dc:language>
  <cp:lastModifiedBy>User</cp:lastModifiedBy>
  <dcterms:modified xsi:type="dcterms:W3CDTF">2011-03-19T11:04:14Z</dcterms:modified>
  <cp:revision>84</cp:revision>
  <dc:subject/>
  <dc:title>Слайд 1</dc:title>
</cp:coreProperties>
</file>