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D23-A102-46BA-909F-90CD4DCC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B0A-F148-4824-90E0-C6E073F1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EE3-13A2-4657-A6AF-C1115F90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8A1-AA3C-4ADE-BE03-5CDAB732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1AE0-8CC6-4819-823B-9C5259E6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DF29-DB19-4544-9C43-B8145956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8501-99E4-4B3B-A554-C91099FE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E6A3-F9C4-4CF2-A71F-E20732B6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5EEF-A2A1-4AC8-BA1B-10377F3E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83B4-869E-483D-8FB2-3800826A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65C5-C53E-4BB8-993D-0502A051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5F5-21C8-4F3B-929A-0B33A1E6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7E0F-8E25-4C45-9080-70E2811A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B59B-98DC-4E25-88F0-3B6702DD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F739-B094-48ED-8BFF-77E397DB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1066-7F6C-47E1-951E-BB2D76AE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C5CB-075E-4A54-94CD-D0110DFF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AD9-3AFE-4CA3-B41A-EFC59EDC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BBD-4E17-466E-A732-06B2E313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EF2-63C0-4D72-9C3C-B361F514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A713-F8F4-46C4-89C2-92FBBC46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50BC-034B-4538-9584-EB87FAD2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F3B-0C66-474F-8C09-2157598E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EB3-98CF-4F23-903C-A49590B8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5094-F6BF-4166-A170-7E88BDD296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6B6A-A69B-41FC-9526-6B243028DD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временное искусство       и… 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437000"/>
            <a:ext cx="64008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динство противополож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2,-47)"/>
                                          </p:val>
                                        </p:tav>
                                        <p:tav tm="50000">
                                          <p:val>
                                            <p:strVal val="rgb(66,-90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2,-47)"/>
                                          </p:val>
                                        </p:tav>
                                        <p:tav tm="50000">
                                          <p:val>
                                            <p:strVal val="rgb(66,-90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gency FB"/>
              </a:rPr>
              <a:t>Бела Визи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енгерский хими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Художники могли бы во многом усовершенствовать химическое образование. Два столетия этот круг наук изучали, как правило, в отрыве от их корней, древней истории ремесел, наконец эстетической стороны науки о веществе. Между тем у нашей цивилизации издавна была потребность осваивать явления материального мира комплексно – как научно, так и эмоциона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2,-47)"/>
                                          </p:val>
                                        </p:tav>
                                        <p:tav tm="50000">
                                          <p:val>
                                            <p:strVal val="rgb(66,-90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2,-47)"/>
                                          </p:val>
                                        </p:tav>
                                        <p:tav tm="50000">
                                          <p:val>
                                            <p:strVal val="rgb(66,-90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угусто Муре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968720" cy="3720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340000" y="1916280"/>
            <a:ext cx="6350040" cy="4635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067280" y="260280"/>
            <a:ext cx="42876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612720" y="476280"/>
            <a:ext cx="1040436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15:02:31Z</dcterms:created>
  <dc:creator>лариса</dc:creator>
  <dc:description/>
  <dc:language>en-US</dc:language>
  <cp:lastModifiedBy>Adel</cp:lastModifiedBy>
  <dcterms:modified xsi:type="dcterms:W3CDTF">2013-03-14T13:25:12Z</dcterms:modified>
  <cp:revision>12</cp:revision>
  <dc:subject/>
  <dc:title>Современное искусство       и… наука</dc:title>
</cp:coreProperties>
</file>